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3EB-30F2-491B-9AA0-FFC94BDC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3FD-9996-46F6-8AB3-57DF89F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BB5-26D1-4BE7-B4DC-A9C5488D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2F2-8CE1-40E2-97E1-C1FFFE00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490-CF93-4563-BD60-21B0267C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58C-5E2C-4668-8D2B-B12D57B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416-8CC3-4EF3-AA95-7A8BC2D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621-0E91-4ECB-91BA-59C9995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B4F-25EF-4449-9ADE-E22AB6F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0E3-EF11-4A03-8762-51492BEB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98D-11FD-44AD-A919-BACC160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D92-6BAE-4AEF-98F2-9C04D68F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1A7E-DF09-4D57-AAC3-7616DA9AB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rk of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4864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063520" cy="31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9144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5400" y="6094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447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59520" y="1273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081160" cy="327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72440" y="45720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Dou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990720"/>
            <a:ext cx="3429000" cy="344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rom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been opponents f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Senate in 18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upporte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ning the expan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ry to new terr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lass suppor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r sovereig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105520"/>
            <a:ext cx="202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181480"/>
            <a:ext cx="2514600" cy="1008720"/>
          </a:xfrm>
          <a:prstGeom prst="rect">
            <a:avLst/>
          </a:prstGeom>
          <a:solidFill>
            <a:srgbClr val="d73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Radical” Republicans, were  fervent abolition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5029200"/>
            <a:ext cx="2666880" cy="1313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emocrats split because Southerners wanted a stronger pro-slavery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of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82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83320" y="591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8579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5410080" cy="531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21337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1683"/>
                </a:solidFill>
                <a:latin typeface="Arial"/>
              </a:rPr>
              <a:t>How do the dates of each state’s secession compare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f1683"/>
                </a:solidFill>
                <a:latin typeface="Arial"/>
              </a:rPr>
              <a:t>concentration of sla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3096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8:52:55Z</dcterms:created>
  <dc:creator>Yarmouth Schools</dc:creator>
  <dc:description/>
  <dc:language>en-US</dc:language>
  <cp:lastModifiedBy>YHS Teacher</cp:lastModifiedBy>
  <cp:lastPrinted>2006-12-14T14:20:54Z</cp:lastPrinted>
  <dcterms:modified xsi:type="dcterms:W3CDTF">2009-01-23T00:00:57Z</dcterms:modified>
  <cp:revision>37</cp:revision>
  <dc:subject/>
  <dc:title> The Cotton Gin, 1791  </dc:title>
</cp:coreProperties>
</file>